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6D3-0A17-45DC-A41E-19AB244E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8B70-7DC3-444A-A872-AE0D2001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B5DE-31D8-4306-B5C4-EBE9F2D5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C82-2A49-48C2-A040-922D2699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EB12-4DC6-4267-8DA0-8EC71E4D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41A6-46EB-4F20-A2FC-2B54EF63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A115-183C-4E1B-900D-5FC9D5CB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2A26-72B3-4F62-9A4D-24825B83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EFEE-4786-41A4-AA90-AB3808FB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B69C-ED92-4DA7-88EC-43CFE572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4D1D-BD5F-4E54-9698-915F3FBA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6B33-4055-4E0B-9ECC-34C2BB39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CFE2-4BCC-44B7-B544-99806CFB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627F-0986-4B55-A3AF-FB8075CF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C2AF-A4AB-4C99-A3DB-FD0ADCFF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A198-A31B-4A11-8B9C-8A3494CE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A50C-65DA-4DFB-B7D4-86D775D3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5CE4-8763-4068-81F7-EF5874E0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003-D188-431C-BA0A-D23A7183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079C-39CB-4DE8-BD5B-F644E78A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8C9-FB02-4BAE-8EBF-6D22A75F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CD9-DA51-469D-96E7-6B2E698C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BF7-37F3-41B6-9D77-3CBB182C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CEB-E076-4E68-9604-67A9D5CB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62B5-9503-491B-8457-14C87FB2FC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2D5C-D403-41D3-A3F0-91EF9ECAA1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сберечь свое здоровь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иды кровотечен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пиллярноетемно-красный цвет крови, истекание крови небольшой струйкой,  редко угрожает жизни и здоровью пострадавшего человека прекращается самостоятельно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териальное- пульсирующее струйное истечение крови из раны, цвет крови имеет ярко-алый оттенок. Опасенн для жизни пострадавшего, т.к. стремительно приводит к наступлению полного обескровливания организма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нозное-медленное, но непрерывное истекание крови из раны. Кровь имеет темно-красный цве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&amp;Vcy;&amp;icy;&amp;dcy;&amp;ycy; &amp;kcy;&amp;rcy;&amp;ocy;&amp;vcy;&amp;ocy;&amp;tcy;&amp;iecy;&amp;chcy;&amp;iecy;&amp;ncy;&amp;icy;&amp;jcy;"/>
          <p:cNvPicPr/>
          <p:nvPr/>
        </p:nvPicPr>
        <p:blipFill>
          <a:blip r:embed="rId1"/>
          <a:stretch/>
        </p:blipFill>
        <p:spPr>
          <a:xfrm>
            <a:off x="6516720" y="189000"/>
            <a:ext cx="22860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еры оказания первой помощи при кровотечения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 венозном кровотечении значительной сил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еобходимо срочно пережать поврежденный сосуд с помощью любого подручного средства (можно даже при помощи пальца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случае артериального кровотече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ложить жгут( не более чем на 2 час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 всех видах кровотече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авящая стерильная повязка, холо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&amp;Pcy;&amp;iecy;&amp;rcy;&amp;vcy;&amp;acy;&amp;yacy; &amp;pcy;&amp;ocy;&amp;mcy;&amp;ocy;&amp;shchcy;&amp;softcy; &amp;pcy;&amp;rcy;&amp;icy; &amp;kcy;&amp;rcy;&amp;ocy;&amp;vcy;&amp;ocy;&amp;tcy;&amp;iecy;&amp;chcy;&amp;iecy;&amp;ncy;&amp;icy;&amp;icy;"/>
          <p:cNvPicPr/>
          <p:nvPr/>
        </p:nvPicPr>
        <p:blipFill>
          <a:blip r:embed="rId1"/>
          <a:stretch/>
        </p:blipFill>
        <p:spPr>
          <a:xfrm>
            <a:off x="6372360" y="3500280"/>
            <a:ext cx="2286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епловой и солнечный уда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Легкая степень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ая слабост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ловная бол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шнот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ащения пульса и дыха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сширение зрачк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Меры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ынести из зоны перегревания, оказать помощь (см. раздел "Доврачебная помощь")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   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         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Тяжелая форм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теплового удара развивается внезапно. Лицо краснеет, позже бледно-цианотичное, потеря сознания, повышение температура тела до 41 - 42 С, случаи внезапной смерти. Летальность 20 - 30%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   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   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Признаки теплового и солнечного ударо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оловокружение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оловная боль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чащенное сердцебиение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ошнота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холодный пот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раснение кожных покровов лица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падок си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СРОЧНО!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Устранить тепловое воздейств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далить пострадавшего из зоны перегре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ложить на открытой площадке в тен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дыхание паров нашатырного спирта с ват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свободить от верхней одежд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мачивание лица холодной водой, похлопывание по груди мокрым полотенце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ложить на голову пузырь с холодной водо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астое опахив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звать бригаду скорой помощ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2266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022160" y="292428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врачебная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6320" y="476280"/>
            <a:ext cx="4990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Доврачебная помощ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     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ервая помощь при обморожен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знаки и симптомы обморож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теря чувствительност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щущение покалывания или пощипыва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беление кож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1 степень обморож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олдыр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2 степень обморожения (видно только после отогревания, возможно проявление через 6-12 часов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темнение и отмир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3 степень обморожения (видно только после отогревания, возможно проявление через 6-12 часов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его НЕ делать при обморожен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&amp;Ocy;&amp;bcy;&amp;mcy;&amp;ocy;&amp;rcy;&amp;ocy;&amp;zhcy;&amp;iecy;&amp;ncy;&amp;icy;&amp;iecy; &amp;khcy;&amp;ocy;&amp;lcy;&amp;ocy;&amp;dcy;"/>
          <p:cNvPicPr/>
          <p:nvPr/>
        </p:nvPicPr>
        <p:blipFill>
          <a:blip r:embed="rId1"/>
          <a:stretch/>
        </p:blipFill>
        <p:spPr>
          <a:xfrm>
            <a:off x="7236000" y="260280"/>
            <a:ext cx="1485720" cy="190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&amp;Pcy;&amp;iecy;&amp;rcy;&amp;vcy;&amp;acy;&amp;yacy; &amp;pcy;&amp;ocy;&amp;mcy;&amp;ocy;&amp;shchcy;&amp;softcy; &amp;pcy;&amp;rcy;&amp;icy; &amp;ocy;&amp;scy;&amp;tcy;&amp;rcy;&amp;ocy;&amp;jcy; &amp;bcy;&amp;ocy;&amp;lcy;&amp;icy; &amp;vcy; &amp;ocy;&amp;bcy;&amp;lcy;&amp;acy;&amp;scy;&amp;tcy;&amp;icy; &amp;scy;&amp;iecy;&amp;rcy;&amp;dcy;&amp;tscy;&amp;acy;"/>
          <p:cNvPicPr/>
          <p:nvPr/>
        </p:nvPicPr>
        <p:blipFill>
          <a:blip r:embed="rId2"/>
          <a:stretch/>
        </p:blipFill>
        <p:spPr>
          <a:xfrm>
            <a:off x="0" y="4941720"/>
            <a:ext cx="2050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Первая помощь при обморожении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брат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с холода (на морозе растирать и греть бесполезно и опасно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закрыт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сухой повязкой (для уменьшения скорости отогревания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едленно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согревание в помещени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бильное тепло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и сладкое питье (согреваем изнутри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ельзя при обморожени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гнорирова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стирать (это приводит к омертвению кожи и появлению белых пятен на коже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гревать резк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ть спиртно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рав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ломы-это нарушение целостности кост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иды перелом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ыт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рыт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7020000" y="2421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03640" y="3068640"/>
            <a:ext cx="351504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ервая помощь при перелома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беспечение спокойного и наиболее удобного положения для поврежденной конечности, что достигается полной ее неподвижностью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ложить холод (резиновый пузырь со льдом или холодной водой, холодные примочки и т.п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ложить шин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править в медицинское учрежд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09:26:04Z</dcterms:created>
  <dc:creator>user</dc:creator>
  <dc:description/>
  <dc:language>en-US</dc:language>
  <cp:lastModifiedBy>user</cp:lastModifiedBy>
  <dcterms:modified xsi:type="dcterms:W3CDTF">2013-04-23T07:40:51Z</dcterms:modified>
  <cp:revision>9</cp:revision>
  <dc:subject/>
  <dc:title>Как сберечь свое здоровье.</dc:title>
</cp:coreProperties>
</file>